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64C-53DC-4B84-BCB9-3F633926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443-E697-4FEE-A8E9-E6CD03E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585B7-59DF-4287-AAD8-7A517A44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5C502-48FD-4C74-BF9F-16D302A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B4FE5-4F1C-4B93-9735-5B47ECA5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5136B-1EA7-48E0-8382-2C3D66A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2A589-EF23-4C5E-8DCB-30A0F75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162A-E3F8-4F41-BEE2-CD284498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E0D36-D23E-4C3D-9E41-7A37681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E1786-7C66-4466-9EDF-D4A5223D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60B4E-3871-4761-9489-B1B2F0EC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90FAD-D89A-4763-97C6-C2B326C7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B78-3150-4218-840C-C8254F18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5F1F7-2AEF-4443-AFE8-B90FEB69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5E67E-A3EF-47CF-9A71-4361C55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C79B8-5A8B-45AD-9BB8-FF64B88B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02E43-9296-495B-BF9D-EC2ADD17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BF863-5410-4821-8D91-555E7D8C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61DD7-6F33-4D7A-9F0B-E1ACE24B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79579-E4E1-48C4-9621-D844A68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D925A-D63D-4596-8B05-D238681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883C5-1508-4963-9410-294E9EB7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14341-9380-4CCB-8E36-657116FF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D45-9728-4508-BBCA-1EF92BCF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2D038-254C-46C9-A4E9-FE2D1B4C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3AC2B-0750-4DC1-AD4C-AB8FCCF8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6168B-2493-468C-B072-004ED7A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EC688-E2DA-4E74-B24F-4463B34E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F700-ACF2-48DB-83C8-D591369E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00299-058A-4AC0-A0FE-6BD4DA2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6B306-F0D3-4C7F-A31B-250720D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1FFD-009B-4CFA-A0B5-6B99FC4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5EFC-F029-42D6-AB47-CEEE714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BD998-8D78-4BA4-8BCD-5803E8B1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A7F-09C9-42AC-B9CD-936E6E24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F9D6D-D2AA-410F-BA1B-1A58C74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8271-BF71-4760-88C0-02ED8C48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5D2EC-9325-4654-BE1A-C02439F3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B34DA-B944-40AA-A039-C77DB53B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F67AB-9AF7-44BB-A499-E93DE83C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7DAB8-9C8B-4EC1-9FD0-1C86B16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83549-0966-4B8A-8362-AFC8517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40F86-A821-4DE7-9591-213ADDF3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C7E49-59A7-4115-867E-3FEB6176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ADEC8-83A7-4A48-94A8-47E6237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62A-54D9-4873-A814-68F7974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FDF0C-3864-4E0C-BE90-063F4C34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1A5BA-0499-443E-89FC-6C652AC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2A0D7-EEFC-414C-AFC8-312E04E8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51FEA-D680-4839-8FFF-3EB50E3E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0DFA6-67C6-468F-A448-96A4FECF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665F9-A6D3-4CDE-A7D8-9D62DBFB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9124C-CF0B-4C6A-B118-E3329D7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3EB38-8005-461D-858F-6793C006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CC41C-516F-43E1-A28B-90CB3B64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786EB-F48C-4711-AFB1-6821C940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08B8-2123-48EC-ABB9-F8F3996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5D1B4-994B-487D-9A66-505D7F23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1156E-F696-4552-A755-6D7E599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369D1-6BEB-452F-83A3-A891736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70FF2-8450-4864-8292-BE4AAC4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2C52D-8270-4294-AFD1-F6A5EF1C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06F2E-B8BE-4571-B4B8-4C7D785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0A97E-B5C5-48E9-BDD4-C97FD74C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9CF69-8345-4FD2-9BC5-76B6118D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3DF53-B7E4-488B-9BC6-B7C2207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37B56-DAA7-46A2-A9D5-3A8E930D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9E5D-0DCA-4ED7-A00C-3C231F49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D2D66-DC43-4FEA-8D1E-45ED3C9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57A5E-F220-49BE-B29D-156F98F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C174B-D979-42F5-90A2-F62C911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1B67C-78D4-4D9E-8845-E5392B7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34AE5-0772-440E-B7A8-E25671C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C09D1-22F9-4677-8D00-7679A7A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2658D-23D3-49CE-95EF-5777CCA2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808C4-FD9E-49E3-9F4C-A54127D7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2C05B-1A51-4858-9B1D-EE06B4BC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43D03-3BEA-4CD4-80C1-CB9ADC0C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0660-1484-465D-852C-0354B72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FBC32-1D4B-487E-BEFD-A8A77F0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6E5E4-62E3-40DC-A9A8-9E17F57D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95EE8-6394-4242-B5F9-89AD51E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87E1A-3A85-4684-B40D-314493B5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F7D56-C7AD-4172-A3D0-B317CEAB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5DD26-C45F-4B34-B0DC-F28E0D17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8E7FC-0F3A-409C-B74F-279C5C99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6C183-34C4-4BE5-BCF0-2A575CC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BAC75-3AA2-47C7-87D0-6FDA780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24F5F-5D7F-417B-A941-2131511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214F-BC37-45B5-9CD5-212B17C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2818F-A582-4A0C-9C55-BE3EF4BA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5F4EB-04A1-4F39-AEF5-34D23FEE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1C3A9-F2F5-4BC6-BD5D-72F95F5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0A34C-D696-48BE-9167-D15C752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34C38-8958-4783-8326-D2CBDE7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6E25B-3071-4F40-BF12-F4542E8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606F4-41A3-4BEE-9AC4-67FFA69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503BD-7CA2-4E86-98F9-32E4969A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5C078-3005-4C7D-ACEA-32D127DC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7E686-2283-454C-B874-0B0CC2B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47D-5AF5-4B0A-9A50-F4E0B51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DCAFE-13A0-4812-9A75-AEED9AE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2C3B8-8FB6-42A9-B396-1770BF36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CFCCB-D424-402E-8C27-C9A97FBD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D4A96-B8BB-4203-84CD-E6262E5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82654-695C-4490-93CF-98F80B96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B8741-F911-4101-8E0E-32A40F35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7ACDA-763C-42F5-AC59-9A75ED7E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F2E31-0C58-4F0D-82EB-E2A883F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E50D9-82B1-4EC5-AB17-95E781F7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C0BF9-16E0-4368-8D52-CC4D46E5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B94-FD5F-4B6A-8964-9E42C33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F63C-F5E5-497E-921E-8D2F6FB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66822-1BEA-400A-9230-08F9A19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20E2B-C3FC-4FB2-82F4-FB5375C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8FB3B-F27E-499A-BF22-3CE29301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AB01D-BD7F-4BD5-A823-6EB7B1A4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5205D-DAD3-4151-9F79-AAFC02D2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8EE52-D3BD-4D57-AB94-8E22FA96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FE607-27EC-4955-86C8-531A8A6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159F2-7CE3-47EC-B1A3-2B785579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9BF86-4C05-4D48-8E39-BC084F3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1C122-7CDE-4CE0-A790-7D67C3A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3716-B32C-4C63-B36D-0287433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AE03B-3D61-4B2A-9C73-1EEF83C2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4AFC9-DDF8-4D8B-958D-CC19600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6687E-1D2C-4901-B268-86CE9DC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0FA97-CAEE-408E-9617-42B3702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91364-D8D4-4E8B-8CD6-CF3B7C53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D3443-8C50-4167-BB67-9035DF9E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916CF-CD77-4B07-BD6E-9AFE9ED9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25062-096B-4938-A4F2-A7A1145D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C250C-CD27-46F5-BF7D-5465EAEB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C4A5B-84EB-492A-B12B-DDACCC88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947-0D14-4AD6-8BC3-CED0FAE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F9C5C-A1F7-4FBE-B1E5-B729DF4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A3818-49F1-4CEA-BB60-AB5CCD2A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259F6-7650-4DD1-B194-630613D4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20830-7E76-413C-89DF-1B9265D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CDF48-DD7B-49BC-898F-5AE84D0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2560E-D9EA-4D6F-AE56-45A5EFC6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7F5DD-8476-4980-82C8-597E698F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EA300-298E-46D2-A2AD-385C65D7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AC814-9264-4031-879A-338E6AC6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642E8-B7F2-4A93-8CA4-F479DD00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54F-1506-4B28-B255-CE193751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EA5B8-7FE9-46E2-8C51-86175FE8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0B220-10E2-493C-920F-B6FB462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F132D2-189A-472A-BAD5-43223EC9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156BCE-882A-457F-A110-591E784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5257D-CCF2-4D7B-A941-76BEFAF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B717A-A3EF-4660-945E-CF1B86F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D0F77-4432-4A04-BA3E-E6AD6BF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4F0C0-370F-4294-8CE4-91D2D4F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FFC3C-9F78-4A5B-9B81-9348CCA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D10C4-8F6B-4121-8350-17FE845E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A695-B658-409A-ACAF-5F4EB2C7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34A19-A43B-4BC4-B369-262956A5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7CFA0-2816-48F2-A99B-C819B5D6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19090-D93C-45B5-BB24-D43E074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498A63-DFD9-4778-A6D7-014A1AD1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2C447-338E-4F7A-8D51-0FC508BC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6C0A2-8C07-4438-ADD7-C90C3000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BCF98-35AE-40A1-9E73-4B9A72B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B5F5AC-639F-4BB6-BB56-BE9F048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619CC-6AEB-41EF-90BB-D6C2B01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71FCB-E52C-4B63-A7EA-16B6000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9A59-AFF1-47EF-B4B4-4E205394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67ECB-5732-4F2E-ADE2-2BCC1691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1A5E9-2A3E-4194-A7CC-91F57A0A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A7BAB-60B4-49B7-8518-F96686A5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D5456-5CC4-458A-B2AA-8D36A674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2B524-380B-4721-A6A2-C3F3C9D8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B955F5-0FC2-4E1D-BA3D-EC4E619A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17C7E9-8515-4658-90CC-B01F042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ADDB8-D434-4E72-BB1B-566F29E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641D59-F1A6-439E-AC34-07993B5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8F4C96-03C2-4F95-9AC8-6CFD81C6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DC68-4A22-4D4C-AA5F-69ECC13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1DE00-5F15-4390-B022-F91BD99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8FA63C-B0B7-4FDA-A02E-F0F4B45E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CACE73-3D04-4971-A9C3-A7DFE171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2F8500-4A93-43EE-B4B6-1E66F63B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C4891-717A-4D56-BA46-82C03EF4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BDAC04-3FDB-4B80-8D04-39E78985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4D3C0-D356-42BF-A162-286524A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19E13-67F6-432C-9DEB-3B447927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7727A6-0E5B-4724-A031-194738BD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7A7F87-C059-4F73-B2EE-BABBB927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F6C1-7580-4FE7-A5F5-A544EA8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CB36F-84C3-4BC7-B4CB-B8267D7D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7E503-2381-48E0-8130-70A70DD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FEF188-CB70-4745-A734-8BC22A5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D67B2A-CC40-40B1-BBDB-A0C9041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0DDD8C-A18A-46EF-BEA1-A258712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B0839-32DD-48D2-A2F5-A6EF8D84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84437-4FBC-43AD-B5A9-2E90BC47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F7006E-3AAE-4A28-B980-265AE4B4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577A03-00B3-420D-9F32-55BACFA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82FFC9-F62D-4066-9E55-0F6D540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39C4-3278-4FB6-9F63-A1A6A9B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A6DE12-12FC-4609-A3A1-44A4079B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30627D-C161-4C9F-95AD-0E19122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B2D8F6-A5E6-453B-976C-E690F063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C43FE7-B78E-49B6-B175-81F03AD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3B5D9F-0C21-46E4-8DD0-CC48094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01E244-95FD-48BF-8019-6199970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CF352E-EAA3-4C53-B5AF-E0D64003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58F5F-7D6A-4FA8-86F1-262F4C53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BB32AC-7FE9-4624-A2FA-EE2C8767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16FEF9-C47E-4F65-B459-BAFE09C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A511-E526-475A-BDB7-ADDCB9E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24567-B11A-4E4C-B718-9119C86C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607D4B-65B7-4599-BDFB-A635824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844ED0-3898-49B3-8ABB-6DDD2415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2C09CF-A78C-4D9C-B2BB-2C6F776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4DCD4E-A9E7-446A-80C3-61EA983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13D705-9460-4071-B029-549BD0A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2B9ED8-5255-41D3-96BB-4566E83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82AD48-E8EE-4673-AD36-255B936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65CC03-A153-439A-B0B1-D2CC0D1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61106C-84FC-41B5-ADD6-6DA400C0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A28-636F-4CD5-A739-3A39552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5ED9-1F4B-4267-BA17-F836B793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6D0A00-8375-4212-9708-D7EEEC8F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131B1-D716-4174-8EE0-5A78EFE2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37668F-CF28-409E-A503-B789CF3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8FD782-9C4B-404D-A9A7-D4E9DBA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8F3130-EA91-47A6-9E63-3AB91383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5F45BF-DDF3-4359-91BD-AFA0A79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52EAAA-70FD-4D02-B0F3-C58EC8C5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0C5C17-FBB5-4CE6-A06E-3E585208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D4A043-7515-4DE0-9228-32BDE72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CCCC3F-D7BA-4CD2-B15E-35E660B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B905-8C11-446B-8114-DDFFB37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31A02F-CBFB-4607-A403-D464F397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78B088-FFBF-448D-9A75-3AB2711D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140160-456F-48B2-9668-B2F2A362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7A746-5B1A-4F97-8C4F-8B73750A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1EB1DD-072A-4374-BEC0-AF5D035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BF8811-3EAC-40B3-A235-BAD3AA8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9F0B17-C591-445D-96EB-558BABFC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5C8BF-78E2-40F3-92A5-02406FAF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622B57-9838-4AC6-BB57-4AC9633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F019B0-76E8-417B-8A12-451E3E1A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C3F6-B721-4EF2-8672-4D8452D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B7E5F8-87D4-4095-944A-826775F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0DE60-AC66-483B-96F7-9EC81C7F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4023A5-4D11-491D-95D3-2DF2FDF5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3EC16B-BBC2-4B5F-805E-FBFE43AA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C7E74F-E678-47BB-B7EC-EF136655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97A5D4-1897-47F5-A3E5-A1C88B68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B15600-F8D2-433C-978B-C7720A6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DDCD4E-15BE-4225-85C8-41115584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B13A3C-62CD-44DF-91E5-E2907736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D701D9-B0C1-4480-B098-B514D04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042B-3492-4621-9725-2E0BB31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EA284-822D-4853-9B20-1571246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3AE366-720F-4098-B905-4C9BDF3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1A4064-BFC1-4438-A603-3BD595F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AF07FC-C69A-4B58-B00D-ECFEE4F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295995-3935-4F7E-8A69-9CA26453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CFA676-48CB-4E55-B8BD-593575E2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FD1704-CBC3-446C-9323-2933C5E9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0867FE-E0B9-4C3E-AF5E-6E90B4D1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B30FF9-33CA-4349-A20A-C7F04922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EB3CD6-C7BB-4C51-8636-6CCC3DCC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6ECA-BE04-4821-A5EE-AE3CD708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E44FCE-1F63-4382-BAA6-81681AB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66AF83-32A2-44A2-83AB-81ABCF1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5824BF-E6A4-4EDE-BFC6-F66E42DF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09605C-4C94-4519-A02E-EE2A56F0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E31197-F445-4548-B611-FD21C4D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4FB89E-3560-4BDA-A124-22FAAB4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9BC37B-F668-49C7-A67F-6FE5C0B2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067853-53CD-4B7D-8799-C0D7C383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C474D0-7C9F-456B-8526-CFEB977B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E6CA43-B526-4443-A020-B0E5AB5B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2D49-B687-405E-9124-BC5A552D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D47588-CC58-4F07-90C0-D9F7C65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4CBFB1-757F-4344-934E-A9099E7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D5664-7B33-4F6B-BBB3-5EE0ECD0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2A7B81-FE0E-43FF-802E-8FF927D6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19B8BE-C517-4157-B93C-F27BE031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686CE6-C732-41B7-ABFA-29987AF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EADDA4-05F0-4542-BB75-C662D92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4533CD-047D-42B1-AF85-F720BFC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90C48D-ADE0-41FC-B8FD-E61B95E0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5DC1E0-7DFF-4F3C-8614-F8CB79BD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55C0-C407-4A27-99CD-2B15BBF1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8DF73C-7159-4729-BDAF-136A2327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EC327D-38A2-4AE6-83E0-2D32F53C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D99BB1-EBDE-4894-BAB6-E0B515E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28FF14-173F-480D-88F5-91208E7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28BF44-0003-45D6-B840-54CEE8D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020AEF-DA59-4780-806A-A8FE8B8C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3A4140-6E86-4C6F-B44A-D16CA09E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3EF374-D88E-4448-BA6A-0E22BB8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430E7E-7E9E-491E-AF77-9BAF707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49CC80-8CA8-4CF0-998E-63D1D10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D65A-F430-4678-9500-DAA93E0A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1BAD8C-7359-449A-B1A0-AE539658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664649-039D-4ABD-AFFF-300DF302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EED2F6-5BA0-4E03-86CC-BEDC6528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D1B306-1C7E-4EEB-BDEC-E8AA117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4557D1-9D6D-4FC9-9B61-4FFB68CD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1582F6-11CF-4A4B-B3A2-F3ED258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6FEF33-4247-4AC6-9E3F-D94FD958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212D50-B42E-4523-B5C5-08C8A224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7219B0-DAE5-470D-AC1F-6D0050BE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E02F7F-AA21-4E05-B333-4723F91F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4276-E070-4F27-94F4-9141FA62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AEE4D5-6458-4984-AC82-D0EFDA8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D5BC5E-126F-4009-A7FE-207B9A8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D904A8-0BAD-439E-945D-902311B4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DA3CC5-01C2-454D-A2C6-2E6373A2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7E460A-DAB1-491E-A40A-B12F87C2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CCCD91-8269-4C8B-9C6F-A0B9B4F2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FF2B63-CE5D-4D93-8EFA-8A1D4C3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BBCADD-F4E3-4FB3-8DDE-40535AC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8AE427-7BF2-42B4-825D-5B4374D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EE65A1-503F-4272-9713-EDE3AEF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692D-D87A-4EB3-9346-684C8B9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6AD6B9-BAAA-4057-B166-0CB0D631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493F0A-7FE9-4E28-87BF-4A18A15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60AFC1-9379-40B2-8B60-3B675522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78850A-705C-433F-820A-1E1ABDC7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794547-343C-4D70-81F4-12349E0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EA7AA9-8EB5-4F95-B419-2A51A30C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7E2CE9-4E1F-4539-B6B3-CB4B2E42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BE4148-621C-4E77-8033-365D9089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B2CF08-CEFB-47EC-ACA9-391882A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5555A7-DC4C-4509-9787-C8152D32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D30-3BF2-43EB-8C5F-192CA9FD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522C-1FE8-4517-B38D-18EA6BCE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D685BB-14A5-43F2-AAB4-38EC88AE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78F9E5-2680-4319-8A58-03AC5B3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244812-C3E6-4DD5-9A18-D10380C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79D9DE-9EEC-4B54-8E47-FCB041C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BC6C6D-C252-4583-9258-647823C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760697-173D-4E19-B278-2DB55D0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36773B-39FD-4B93-9E31-1714D91E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7F56D3-EAA9-4392-A08B-329FC1BB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AC0092-A0F3-4BCF-A988-14DB1DC5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62B02C-0F27-4B8F-9EB3-46C3FD3B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A801-5234-46E4-8E95-D172C54C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3535F2-FAFD-455C-8E7E-DA5B6224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A75873-A372-4C53-9004-5FD566E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594156-6E8B-4C40-95EE-52DB041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F66385-1A80-415C-B7CE-58DCF479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BA212A-7387-4519-923A-3963028D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0BE398-A472-48D9-B2D0-D78C586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266BBF-E14F-47BA-AFA7-57FFEA3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A929D6-2F49-46A6-900E-068EACF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4E7DD6-802F-445A-8392-474FE46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3CB394-4774-4A44-BF7C-A69F16B9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945D-982B-4C58-9337-4EA5198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A385E0-8F62-4E18-B8E4-E881DC7D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2E0C20-BABC-4BB0-9996-B1F8CA46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409229-9479-483E-A987-BBF5A09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E6B95D-83B2-41A8-9A38-1413615B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DF780F-9FBA-4399-8C44-6453E96E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E33363-6531-41F7-8DAF-B434DC30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552BAE-72E4-4BF1-817E-32704B77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20D5B1-C33E-4E0A-8EB9-63F09789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45B812-F847-4729-9C66-853A910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7E06F6-A06F-47B3-90DD-2AEC2A24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3D23-D796-449B-BF5D-40BBB48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8E24C3-D6A1-4B67-8C4E-F5F41B0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6FA09F-4CE3-4DEA-9D35-A932F4F6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87A48B-FAA9-4D94-A6E1-9BBC1571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F4FE10-7D4E-45DB-86BF-CA563312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CB1062-5F64-41B7-9B41-D540975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0C0BF2-9B86-4B2F-A086-C639AAC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562493-338B-4B6E-8CE2-57A78262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CDE25F-0EE4-4B42-A8B4-33B4991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881657-4CF3-4E92-8191-648C6CC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AA5163-6CB9-4B96-B7DF-E1821F6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5D89-818A-48FA-ADDA-284962A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7348CA-DE6C-4689-91F2-C75A12A7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8DEA0B-00A2-4741-B7B4-8661022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CA16BF-018D-41DF-AA06-EB81C724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6B41B7-9CEB-45EB-A77A-2A374B7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85CD2B-D0CA-4C34-9903-93EF105B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D00330-9350-444F-8599-002499F4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CE016D-F968-43F9-BDC1-41ABC6C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AD2432-B473-4F90-A051-05D8001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99F602-F07F-41AF-AEBA-5C9A4A5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3FE0CA-7D12-47AA-8378-DE226EDC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19A7-A375-4C24-A40C-CD8164C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7364FB-B29C-47BE-8194-C221280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24A0F0-9A7C-422C-B50A-1E0696A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079E6F-4686-4FDB-8FA8-686271B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DDD95A-FD11-4218-87F1-A7CEF50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0B7D67-122D-4BF7-9072-361BCCD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1D8F74-DCEA-4D02-B78E-20ACCFC9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4A1416-F390-4AE8-851A-B05B5940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BC9F5D-B0E8-42BD-B267-E4DEBDF0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D6D57C-A185-4750-9B7F-601C0B4E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A557AE-2FEE-4A78-8040-48817132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6EFB-4BE5-4537-9E2E-B93EDC6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8F0B21-060F-4423-9CAE-9999C522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CE958E-A6A1-4D1A-A7D4-518B7F8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084D46-3950-4435-B844-BCDC3ED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A38CD7-810E-452F-B41E-35A8A271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3E23CC-0A48-4F6C-805C-085B61BE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43AC6F-B9F3-4782-B289-F43B5B2E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33FCA1-6D9B-4CEF-B1C4-DFDA9EB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A9FD7B-2071-4CEC-9F32-520CC1F8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13A830-C980-4EDD-9D37-2E2FD969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DACB05-6070-43F5-9F10-804BABD8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908B-599B-4976-9E99-FB446CCB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E3652A-8DA4-4322-BD1D-1CB1227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CF2AB8-8BCF-49AC-945E-6F94C12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2E9F93-8F9C-4070-9080-E4DA5713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67E16D-343D-4DD9-B563-351AB373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B33D50-6508-4BF1-AB5E-8B42290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03CE06-6255-4708-8915-DCA2FA4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E45067-60FD-4F7F-AE27-B097211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802680-C652-4C0E-B212-BEFD6D2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B09175-3428-495E-AA68-0126105D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7029C6-368B-458D-B50E-53D0BC23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D681-5AA8-4529-92B5-7C3EFABB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93DD7A-0982-4D7C-A9B4-2E7F4C2B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825F2-EA68-4C0C-A97C-7B07CD78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731-2025-4FE0-8E47-7ADFB56C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04688-45F7-4138-829B-2FDCF3E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E286-D1DE-4689-8D6C-C4BC7EEA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89C1-DB1B-4EC7-81B3-4449098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91F4-E410-41C1-B04D-B440D97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82099-5A9C-4EB2-A1C4-4241097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002F-4CAD-476F-BB83-4283C7E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635E-1FA6-4396-A709-662F176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F0D0-EBAF-4E9E-AA85-D5ED0A00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6CAD-7847-4676-A986-8F6585F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C8A6-2093-46D8-AF80-FBDB8250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E44-4382-4C63-B15F-CD64EDE6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78CD-F6B6-493D-9FFE-C46DF757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09D3-AE26-4262-B1D7-D8BFF07B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F01B-40A7-460A-9B95-0DEEA35D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B2EA2-5F2E-42EF-BFFF-A0F492F8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37FF-ADF0-49AB-A1F9-B747982A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ED95-BFC1-4617-9861-0CDF5C1A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4EAC7-5B57-4426-8B77-74ECC64C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8704E-F47F-415C-AAF8-E9DE301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BCF5-09BE-49BD-9488-81A1C9E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64FD-5CF5-4AD3-8C7E-5E38D36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C3A-2C6A-408A-A7A0-4896220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BD2C-F367-4791-A6C4-9934298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9D6C-8009-4012-9C0D-9A2EF38A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104D-714F-4B2E-AC5B-47CFE960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D464-7EA2-40E3-A71D-4BA44DAE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D112A-734D-477E-8F3C-057C8A5A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0D407-2B4C-4D64-B038-FD5A384C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2FCE-54D0-4F95-9812-B1A0E72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1819-4D77-43A5-AC7B-8F6AAFF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8F0A8-9E7F-459C-9880-A671FE5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F983-0466-4870-B9C2-6D935128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8D2-1769-4013-9AA5-998BBDC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80940-41C0-46F6-B9DF-55C9694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E22A-CF96-46B9-A192-637FBB7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300B-7B53-4499-A585-FAA97A2F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30BB-A614-46D3-8935-1CBC9F9A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C1DF8-A82D-4161-B688-6CEDAEA9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BEF9-7D16-45F7-A25D-28AF8AE9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F9003-0536-4E41-AC2B-26E8037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FCCB-DDFF-4D40-9DAC-09DB086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6A34-FEC0-487E-B0BE-62C5274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E9EAC-CFB8-4A56-BC51-202195E8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78E-0DA1-4027-99CD-7155DA0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6AE8-E012-462F-951B-F5FADC43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1ADA2-ED52-4F2A-BFC7-5FA01D04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42E72-0E75-4F9D-B639-11D6ED6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471D5-4659-4194-845D-A73079B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CF130-AA1F-44AC-ABC1-629DE703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72D9-9916-47D0-A35E-8D4CB57C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B2AF-8309-42C0-A7AB-D3A469B6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4872F-2902-45EC-A4D0-BFC5BAB2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226D4-2912-44F1-BA82-FFE1536D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E9A65-98C7-4C81-A412-B43D5D6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389-3F40-4118-AC81-898091A0AB7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1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2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2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3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7F52-DF79-4537-90DD-5E2147A00B4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67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D0F0-EFBC-4696-B46C-000C5A2ADD1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447-AEA1-4F26-B24B-437D1C103A2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5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6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C5A5-0A6D-401D-BF37-EB61A4763A7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0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0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3E8-3DCA-4198-B395-A9BF76BCD2B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50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53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5269-1D27-4980-913B-E5FD8CD5BD6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9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9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9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0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1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2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C30-A2DE-4762-98FD-DEEAF8789EB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4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4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4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D84-C498-4F16-9D13-BCB69CDA069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9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9680-7A5C-4664-B5BE-7C963D5B81D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3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3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84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1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F75-73AD-484F-99D5-51934F68547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F1C4-F8A8-407D-B66B-724F1CB03A8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84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85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B0B-EC4D-470C-9638-302E89F0602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3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3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1AC-EE0F-40E6-BEB3-C3519496579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7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7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7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BF6F-7227-4201-A54D-6D446CE0665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2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2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2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CA4-B913-4EB4-ACAD-EF1FAC977DB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6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6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7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4AA6-D5E5-4002-8E1E-CD765397192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14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1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17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8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19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0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580-4FF5-4360-A73F-A9625F3D731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6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6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484E-E32B-4428-80D8-CF2B81C72A9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0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1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1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1B7-9096-471B-9D82-A1A7681666D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5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5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5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9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860-FE05-4075-AF08-F4477A1791E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03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174-10BD-4943-9F70-85B817AC833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A6C-682C-4713-800E-B49BA83D827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C22-808A-41A3-85E7-32CB91965F0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05DC-5AB6-4C30-B320-59DE57C1E63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0C9-E6CA-4A6B-8D3F-CFBB49AB802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8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8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8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BCFF-1F4B-438C-9AA6-6749401E703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36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7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063A-C2AD-424C-8A13-81DA25C7C7D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8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8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8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BFA5-8810-4A0F-B42F-7B9651C0D2D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3FC3-F67F-4853-B78E-3E351FBAEF5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7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BB1-393D-44CE-A351-BAE91DC2A6E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20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21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5354-1218-42B1-9156-EE7FECA1ABB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6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6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76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B906-03A2-45FB-A7A2-A17ACEF6914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5E2-701B-4F38-82CC-DEC2E920453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B4F2-BA9D-4367-BE94-E3D335318D7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2E7-2BBE-4931-9D17-ECB5769C12F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BDA3-4BDA-494C-A147-CDFE664DB0E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7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7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8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3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4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3299-04A3-49B3-85B0-F9248C04CDB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624F-0DDE-414B-AF8B-B4DF91594AE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73BC-325C-4FE4-9BE4-CBCDE292A4F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TextBox 2"/>
          <p:cNvSpPr/>
          <p:nvPr/>
        </p:nvSpPr>
        <p:spPr>
          <a:xfrm>
            <a:off x="1084320" y="21700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4800" spc="-1" strike="noStrike">
                <a:solidFill>
                  <a:srgbClr val="0000cc"/>
                </a:solidFill>
                <a:latin typeface="幼圆"/>
                <a:ea typeface="幼圆"/>
              </a:rPr>
              <a:t>口语交际：有趣的动物</a:t>
            </a:r>
            <a:endParaRPr b="0" lang="en-US" sz="4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7" name="TextBox 3"/>
          <p:cNvSpPr/>
          <p:nvPr/>
        </p:nvSpPr>
        <p:spPr>
          <a:xfrm>
            <a:off x="2031120" y="42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8" name="TextBox 4"/>
          <p:cNvSpPr/>
          <p:nvPr/>
        </p:nvSpPr>
        <p:spPr>
          <a:xfrm>
            <a:off x="488880" y="5129280"/>
            <a:ext cx="69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州市吴江区小学组块教学研究室 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祺  赵桂芝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直接连接符 70"/>
          <p:cNvSpPr/>
          <p:nvPr/>
        </p:nvSpPr>
        <p:spPr>
          <a:xfrm>
            <a:off x="912960" y="1371600"/>
            <a:ext cx="7318080" cy="0"/>
          </a:xfrm>
          <a:prstGeom prst="line">
            <a:avLst/>
          </a:prstGeom>
          <a:ln w="648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714240" y="1836720"/>
            <a:ext cx="75168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苏州市吴江区小学组块教学研究室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朱祺 赵桂芝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开 发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15760" y="447480"/>
            <a:ext cx="319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猜猜我是谁？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0" name="图片占位符 4" descr=""/>
          <p:cNvPicPr/>
          <p:nvPr/>
        </p:nvPicPr>
        <p:blipFill>
          <a:blip r:embed="rId1"/>
          <a:srcRect l="341" t="0" r="341" b="0"/>
          <a:stretch/>
        </p:blipFill>
        <p:spPr>
          <a:xfrm>
            <a:off x="4386240" y="627120"/>
            <a:ext cx="4478400" cy="447840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30360" y="1763640"/>
            <a:ext cx="3195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头戴红缨帽，身穿小绿袍；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学习人说话，小嘴真乖巧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钩钩嘴儿巧，身穿彩色袍，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鸟类里面找，学舌逗人笑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62" name="文本框 7"/>
          <p:cNvSpPr/>
          <p:nvPr/>
        </p:nvSpPr>
        <p:spPr>
          <a:xfrm>
            <a:off x="120024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谜底：（鹦鹉）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739440" y="1200240"/>
            <a:ext cx="25542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习人说话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舌逗人笑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</p:txBody>
      </p:sp>
      <p:pic>
        <p:nvPicPr>
          <p:cNvPr id="1864" name="图片 4" descr=""/>
          <p:cNvPicPr/>
          <p:nvPr/>
        </p:nvPicPr>
        <p:blipFill>
          <a:blip r:embed="rId1"/>
          <a:stretch/>
        </p:blipFill>
        <p:spPr>
          <a:xfrm>
            <a:off x="6480000" y="2739960"/>
            <a:ext cx="1860840" cy="1860480"/>
          </a:xfrm>
          <a:prstGeom prst="rect">
            <a:avLst/>
          </a:prstGeom>
          <a:ln w="0">
            <a:noFill/>
          </a:ln>
        </p:spPr>
      </p:pic>
      <p:sp>
        <p:nvSpPr>
          <p:cNvPr id="1865" name="思想气泡: 云 5"/>
          <p:cNvSpPr/>
          <p:nvPr/>
        </p:nvSpPr>
        <p:spPr>
          <a:xfrm>
            <a:off x="3564000" y="969840"/>
            <a:ext cx="3643200" cy="1576440"/>
          </a:xfrm>
          <a:prstGeom prst="cloudCallout">
            <a:avLst>
              <a:gd name="adj1" fmla="val 51282"/>
              <a:gd name="adj2" fmla="val 87615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猜出来的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66" name="思想气泡: 云 6"/>
          <p:cNvSpPr/>
          <p:nvPr/>
        </p:nvSpPr>
        <p:spPr>
          <a:xfrm>
            <a:off x="2336760" y="4297320"/>
            <a:ext cx="3456000" cy="1511280"/>
          </a:xfrm>
          <a:prstGeom prst="cloudCallout">
            <a:avLst>
              <a:gd name="adj1" fmla="val 80351"/>
              <a:gd name="adj2" fmla="val -5203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趣吗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8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69" name="文本框 11"/>
          <p:cNvSpPr/>
          <p:nvPr/>
        </p:nvSpPr>
        <p:spPr>
          <a:xfrm>
            <a:off x="244440" y="1792440"/>
            <a:ext cx="3962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你对我的介绍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还满意吗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71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1"/>
          <p:cNvSpPr/>
          <p:nvPr/>
        </p:nvSpPr>
        <p:spPr>
          <a:xfrm>
            <a:off x="244440" y="17924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谁也能试一试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文本框 22"/>
          <p:cNvSpPr/>
          <p:nvPr/>
        </p:nvSpPr>
        <p:spPr>
          <a:xfrm>
            <a:off x="630360" y="341280"/>
            <a:ext cx="7883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我是小小讲解员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74" name="图片 23" descr=""/>
          <p:cNvPicPr/>
          <p:nvPr/>
        </p:nvPicPr>
        <p:blipFill>
          <a:blip r:embed="rId1"/>
          <a:stretch/>
        </p:blipFill>
        <p:spPr>
          <a:xfrm>
            <a:off x="773280" y="1314360"/>
            <a:ext cx="7597440" cy="4280040"/>
          </a:xfrm>
          <a:prstGeom prst="rect">
            <a:avLst/>
          </a:prstGeom>
          <a:ln w="0">
            <a:noFill/>
          </a:ln>
        </p:spPr>
      </p:pic>
      <p:sp>
        <p:nvSpPr>
          <p:cNvPr id="1875" name="文本框 24"/>
          <p:cNvSpPr/>
          <p:nvPr/>
        </p:nvSpPr>
        <p:spPr>
          <a:xfrm>
            <a:off x="630360" y="5753160"/>
            <a:ext cx="788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小朋友，你能为游客介绍大象吗？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内容占位符 4" descr=""/>
          <p:cNvPicPr/>
          <p:nvPr/>
        </p:nvPicPr>
        <p:blipFill>
          <a:blip r:embed="rId1"/>
          <a:stretch/>
        </p:blipFill>
        <p:spPr>
          <a:xfrm>
            <a:off x="163440" y="182520"/>
            <a:ext cx="4286160" cy="2724120"/>
          </a:xfrm>
          <a:prstGeom prst="rect">
            <a:avLst/>
          </a:prstGeom>
          <a:ln w="0">
            <a:noFill/>
          </a:ln>
        </p:spPr>
      </p:pic>
      <p:pic>
        <p:nvPicPr>
          <p:cNvPr id="1877" name="图片 6" descr=""/>
          <p:cNvPicPr/>
          <p:nvPr/>
        </p:nvPicPr>
        <p:blipFill>
          <a:blip r:embed="rId2"/>
          <a:stretch/>
        </p:blipFill>
        <p:spPr>
          <a:xfrm>
            <a:off x="4626000" y="182520"/>
            <a:ext cx="4338720" cy="27241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0" descr=""/>
          <p:cNvPicPr/>
          <p:nvPr/>
        </p:nvPicPr>
        <p:blipFill>
          <a:blip r:embed="rId3"/>
          <a:stretch/>
        </p:blipFill>
        <p:spPr>
          <a:xfrm>
            <a:off x="0" y="2992320"/>
            <a:ext cx="4449600" cy="323532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" descr=""/>
          <p:cNvPicPr/>
          <p:nvPr/>
        </p:nvPicPr>
        <p:blipFill>
          <a:blip r:embed="rId4"/>
          <a:stretch/>
        </p:blipFill>
        <p:spPr>
          <a:xfrm>
            <a:off x="4626000" y="2992320"/>
            <a:ext cx="4338720" cy="32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5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2835360" cy="2297160"/>
          </a:xfrm>
          <a:prstGeom prst="rect">
            <a:avLst/>
          </a:prstGeom>
          <a:ln w="0">
            <a:noFill/>
          </a:ln>
        </p:spPr>
      </p:pic>
      <p:sp>
        <p:nvSpPr>
          <p:cNvPr id="1881" name="思想气泡: 云 6"/>
          <p:cNvSpPr/>
          <p:nvPr/>
        </p:nvSpPr>
        <p:spPr>
          <a:xfrm>
            <a:off x="4413240" y="1849320"/>
            <a:ext cx="4141800" cy="2478240"/>
          </a:xfrm>
          <a:prstGeom prst="cloudCallout">
            <a:avLst>
              <a:gd name="adj1" fmla="val -77333"/>
              <a:gd name="adj2" fmla="val 29638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黑体"/>
              </a:rPr>
              <a:t>来到新班级，可以怎样介绍自己？谁来试一试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思想气泡: 云 6"/>
          <p:cNvSpPr/>
          <p:nvPr/>
        </p:nvSpPr>
        <p:spPr>
          <a:xfrm rot="21420000">
            <a:off x="4465440" y="1464840"/>
            <a:ext cx="3606480" cy="2719440"/>
          </a:xfrm>
          <a:prstGeom prst="cloudCallout">
            <a:avLst>
              <a:gd name="adj1" fmla="val -69361"/>
              <a:gd name="adj2" fmla="val 37490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夸一夸身边的同学们吗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3" name="文本框 1"/>
          <p:cNvSpPr/>
          <p:nvPr/>
        </p:nvSpPr>
        <p:spPr>
          <a:xfrm>
            <a:off x="165240" y="482760"/>
            <a:ext cx="5435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84" name="图片 5" descr=""/>
          <p:cNvPicPr/>
          <p:nvPr/>
        </p:nvPicPr>
        <p:blipFill>
          <a:blip r:embed="rId1"/>
          <a:stretch/>
        </p:blipFill>
        <p:spPr>
          <a:xfrm>
            <a:off x="757080" y="2909880"/>
            <a:ext cx="2833920" cy="22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35:00Z</dcterms:created>
  <dc:creator>盛zhe</dc:creator>
  <dc:description/>
  <dc:language>en-US</dc:language>
  <cp:lastModifiedBy>_</cp:lastModifiedBy>
  <dcterms:modified xsi:type="dcterms:W3CDTF">2017-08-21T03:40:16Z</dcterms:modified>
  <cp:revision>15</cp:revision>
  <dc:subject/>
  <dc:title>板块一、猜谜游戏：猜猜我是谁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